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F90-2F39-4FED-A219-4ADE30C1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F3C-4EC7-4BAA-A217-8CD15BB2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264-CE0A-4BE0-9E64-17FD7043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2CB-6CCC-47AF-B8D5-F0326EF6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8E1-5710-48A9-9F75-EA2E120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DB1-DF5F-417D-B6A7-19A46030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E1D-DEEF-4B5D-A441-E79ABB45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911-FAD6-439F-803C-C76C7587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B5A-5463-4A6D-8115-21EF4494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E90-DAB5-4A16-A331-B77D0B7D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515-C38C-475F-AFAE-F7ED13A2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C06-5CB5-4304-B982-55A6DBA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4DF9-4654-4322-B97E-E8B5F9D2FC1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2480" y="525672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Roman Lukáš</cp:lastModifiedBy>
  <dcterms:modified xsi:type="dcterms:W3CDTF">2003-09-17T18:05:46Z</dcterms:modified>
  <cp:revision>97</cp:revision>
  <dc:subject/>
  <dc:title>Bez nadpisu</dc:title>
</cp:coreProperties>
</file>